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DE65-36E2-402B-928C-F6CCCF7D8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178F-F78F-4B1C-B22B-684A928E0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664-4BF7-4D13-956A-BB0833520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E61-B031-4763-8CD4-FF65AF6C5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BD44-D20F-4075-8E1B-CB43485E6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172-174C-47C4-BA59-E6F62E7C7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02B-FD4B-46E6-B12E-FFDB29DFB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81F-CB84-4D21-A33D-1F7DDC410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B968-2621-406A-8C69-C673F5462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1E17-D3A6-4C3E-BC5D-A5E387EA0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D2F-900F-46E6-9177-6277E73B1E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F0B-F4E8-4995-B2FF-11135874D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5A8-CB26-4144-99F7-54DA537BB9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4E6-2BC6-4D88-B533-E3DCA4E37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D6F-D2DC-4343-997A-3FA89ED01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491-CBB5-4B15-8EEF-DB18055C8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9C96-34A2-46D8-AA69-91459C039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E0D5-A5D9-4656-A559-7C8A5DFAC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7CC5-FA92-4EA1-A342-F27AA03E4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8A3-9705-45D3-8551-70240465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2F7-46BF-4D2F-9D2C-62FA5C82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CAF-6CBB-46EA-A64E-4482562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014-23F1-4B6D-BCE0-43B5DBD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9298-2833-4DD8-8548-F00BE143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797-B3DF-4D3B-965A-EBF7C0A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01E-CEA7-43BF-82F9-F839C11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1E27-9C1C-4EC4-AC54-456C36F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AB6-7A8A-425A-A697-616F20A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EEE3-1E1B-4BFF-B602-3F90A67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500A-19A5-4D35-9CC1-1123742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FB8-4801-45BC-B3C9-16FF2CB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AA8-5823-4FD9-ACAA-19FEE3D1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7E1-2D7D-4F75-AB25-185F865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0DD1-1015-4C8E-AACE-A96D1CC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279-825A-4860-8AA3-364D10A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EFA6-5C49-4FD8-9D14-FFCBBEAA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6A9-C520-4746-905C-4DF9563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000-EE8D-433F-8FC5-BDF7E2E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D2D-7D4E-4502-B1E9-E105B95F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3FE-5B0E-4AD2-B295-C3F8259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D41-2AB4-42E1-AB93-139DD50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EEA-21F9-4196-8019-10517F7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9DF-0193-4F8C-921C-E593AFD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30A2-8FFC-4585-819E-E13DCFF4A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3B3-FAB9-4E23-80E7-F56EB212C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8/hm202_01_q08fs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9/hm202_01_q09fs.htm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12/hm202_01_q12fs.htm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7/hm202_01_q07fs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4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MA, KORINA and whoever else…set your experiment up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nie, Hagles, Millers, Grassland --- SODA???  Finish your lab set up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else – get out your worksheet pa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until 8:30 to finish pages 1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8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can carbon accept in it’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orbit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your plants for growth and water them if the soil is no longer mo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bon = Organic Chem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bonds readily with other elements…why do you think this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/c carbon has on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- in it’s outer orbital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it rea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e- from 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5364000" y="312408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8/hm202_01_q08f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1 electron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2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3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ip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41904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toms shar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9/hm202_01_q09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rcRect l="0" t="0" r="24531" b="27774"/>
          <a:stretch/>
        </p:blipFill>
        <p:spPr>
          <a:xfrm>
            <a:off x="2514600" y="2098800"/>
            <a:ext cx="66294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/ molecule with a charge ( + or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give / take electrons to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d 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tracting eac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12/hm202_01_q12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rcRect l="0" t="3109" r="0" b="16661"/>
          <a:stretch/>
        </p:blipFill>
        <p:spPr>
          <a:xfrm>
            <a:off x="3352680" y="3370320"/>
            <a:ext cx="5791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9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 covalent bond and an ionic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7308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mposition of Matter - Ch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416880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example of an ionic bo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74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s the least energy?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qu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occup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volu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ake shap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475160" y="3352680"/>
            <a:ext cx="466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xns need energy input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that speeds up rxns w/o being changed (lowers activation 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my.hrw.com/sh/hm2/0030724872/student/ch02/sec02/qc06/hm202_02_q06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olecule has an uneven distribution of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oesn’t share the e- equally with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pulls the e- closer, thus the oxygen has a partial negative charge and the hydrogen gets a partial positive charge (draw the pi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 – muy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ttraction between the partially negative oxygen and partially positive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gives water some VERY IMPORTANT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H bonding of water"/>
          <p:cNvPicPr/>
          <p:nvPr/>
        </p:nvPicPr>
        <p:blipFill>
          <a:blip r:embed="rId1"/>
          <a:stretch/>
        </p:blipFill>
        <p:spPr>
          <a:xfrm>
            <a:off x="3962520" y="316080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bonds creates surface tension – water “sticks”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more dense, water or m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aper clip?!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, but paperclip floats b/c water is weakly bonded and those bonds are not bre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Wa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st dense state of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very important…b/c if ice was more dense lakes woul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ze soli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fe could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267080" y="3208320"/>
            <a:ext cx="4753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30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ctivation energ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and review sheets due Monday…review for the test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something will dissolve in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= polar….which allows it to dissolve other polar / ion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substances that ionically b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www.youtube.com/watch?v=gN9euz9jzwc&amp;feature=rela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905440" y="3457440"/>
            <a:ext cx="3238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ter and Oi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ater and oil mix?  Why / why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ow is the chemical structure of olive oil…it is NON-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LAR water does not dissolve / interact with the NON-POLAR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333760" cy="148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943600" y="4959360"/>
            <a:ext cx="3419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rm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occupies space and ha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matter something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of the pull of gravity on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6791400" y="4551480"/>
            <a:ext cx="2352600" cy="230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066680" y="468648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your notes…using a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similar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capillary action or capillari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101000" y="1981080"/>
            <a:ext cx="2043000" cy="2667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9200" y="5468760"/>
            <a:ext cx="1847880" cy="138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09680" y="52671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how acid / basic a substanc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5/hm202_03_q05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low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t of H3O+  (HCL or H2SO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0 + HCl = H30+ + Cl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6/hm202_03_q06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t of OH-  (NaO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0 + NaOH = Na+ + O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7/hm202_03_q07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24200" y="4910040"/>
            <a:ext cx="54198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541440"/>
            <a:ext cx="761976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nished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cannot be broken into simpler kinds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particle of an element that retains the properties of tha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protons and 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up most of th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635800" y="3200400"/>
            <a:ext cx="350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ly charged particles in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ly charged particles that orbit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 particle 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4340" r="16201" b="5554"/>
          <a:stretch/>
        </p:blipFill>
        <p:spPr>
          <a:xfrm>
            <a:off x="5257800" y="3724200"/>
            <a:ext cx="3886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 and neutr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have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Carbon-12, Carbon-13 &amp; Carbon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isotopes are averaged and that is the mass number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majority of Carbon (~99%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______ neutr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62920" y="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257800" y="0"/>
            <a:ext cx="1676520" cy="160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6858000" y="4765680"/>
            <a:ext cx="1905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5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between atomic number and mass numb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your plants (not too much!)  Water is in water bottles up fro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out the worksheet pages 1-6…put your name on it…tear off back sheet…pass pages forward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, hand in your warm up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wo or mor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usually bond to become more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energy level can hold 2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energy level can hold 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energy level can hold 1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want their energy levels to be full so they ar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7/hm202_01_q07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thi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rcRect l="64361" t="14222" r="6943" b="40112"/>
          <a:stretch/>
        </p:blipFill>
        <p:spPr>
          <a:xfrm>
            <a:off x="7543800" y="4946760"/>
            <a:ext cx="16002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es it need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s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ow many needed to be s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666880" cy="25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567400" y="0"/>
            <a:ext cx="357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7:03:16Z</dcterms:created>
  <dc:creator>SASD</dc:creator>
  <dc:description/>
  <dc:language>en-US</dc:language>
  <cp:lastModifiedBy>SASD</cp:lastModifiedBy>
  <dcterms:modified xsi:type="dcterms:W3CDTF">2009-10-01T14:47:07Z</dcterms:modified>
  <cp:revision>41</cp:revision>
  <dc:subject/>
  <dc:title>Chemistry of Life</dc:title>
</cp:coreProperties>
</file>